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applause.wav" ContentType="audio/x-wav"/>
  <Override PartName="/ppt/media/image12.gif" ContentType="image/gi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1.gif" ContentType="image/gi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91E-5AF5-40AD-9B66-D24912F6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222-511D-44FC-A35A-CA840C6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1F3-3DED-40BB-A34E-3F015519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7AF-0BAE-4DD1-B3EC-CFE3ED91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2B1-1E52-4419-B947-6BAA621C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0E99-253E-49E3-8281-80350DF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6AD3-A74F-4172-987B-17951CD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9EA-BD9E-45AE-B82F-17574CE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9BA7-DE35-4AC7-B64E-141C7D1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8FF-2ACA-44BF-A4CA-71EE80D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19D2-41CB-404F-9773-3D06DE9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B15-4097-4F14-A3D6-31D85AB9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4E0-65F3-44E6-9EB7-FAEF946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9DA1-82D4-4B58-9589-4622AEA6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BEC-25F8-4449-8D5E-EF454F7A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B193-2829-4ADC-AD91-DE829DF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8BA-816D-4607-A5B3-AF08CABC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13B-5114-4025-AF8E-8E4B43B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8E4-9838-4C8D-8D4B-0C762F1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B0B-DF1B-4EA1-9DE7-0A6E8668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41D-B4CA-4963-8D36-5CDC8FD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7AD-622D-4ADE-93FE-9039DEF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924-4DB3-454C-9684-849104EB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AD5-BBA4-40B1-9B9D-4532143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CA5-2BA5-4AB1-A3B0-FE3C4407AB6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0AF5-077E-4756-A6D6-0873596008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ttl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Definition : A person who settles  or makes a ho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Base word : sett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Inflection :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Synonym : pione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Antonym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Syllable : set-tl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398760" cy="2587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rangler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people who ga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wrang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cowboy and gir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wrang-l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943600" y="251460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3276720" cy="244620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ronti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: A remote o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stant area beyond whi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: fronti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deserted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front-tie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59280" y="2881440"/>
            <a:ext cx="3456000" cy="22478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ione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: A person who settles in an unknow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pione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ettl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pi-o-neers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89600" y="3035160"/>
            <a:ext cx="312084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rri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Unicode MS"/>
              </a:rPr>
              <a:t>Definition : </a:t>
            </a: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A space area belonging to a person or a place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Base word : territor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Inflection : 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Synonym : propert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Antonym : unclaimed place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Syllable : ter-ri-tor-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083200" y="1981080"/>
            <a:ext cx="2938320" cy="4114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ven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People who take part in bol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adventu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: 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dare devi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ad-ven-tur-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termin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Having or show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determ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tro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wea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de-ter-m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627520" y="3240000"/>
            <a:ext cx="1849680" cy="159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 :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Equipment , such as to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gea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uppl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gear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1819440" cy="182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pportun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A good chance  Base word : opportun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ch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op-por-tu-ni-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46384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u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nned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skin in order to make materi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: tan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prepared blo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: leave alo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: tann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684760" y="1998720"/>
            <a:ext cx="1736640" cy="1946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933560" cy="161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9-01-30T18:30:34Z</dcterms:modified>
  <cp:revision>11</cp:revision>
  <dc:subject/>
  <dc:title>PowerPoint Presentation</dc:title>
</cp:coreProperties>
</file>